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9A411-2E17-4DE9-A174-BB2702956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BA314-6D4A-439F-ACEE-0F14BBA2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69C2A-616D-4418-A3AD-18709A3E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F07D4-F0CA-49A8-8E47-B1876929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EC7C43-230F-4A68-BAAC-15D2A959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84EF0-931F-48A5-85AB-75A6938F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15DD2B-E0FC-4F39-AEEB-F42B7128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574B0-D126-4E7D-B84E-E650BCFE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2BABB0-0951-4F63-86DC-FFEB9D16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5DBE7-88AA-498E-A9B2-607B5146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33AC2-D691-4F4A-A761-3C3A04E8A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0ED8A3-2BBF-472B-B434-2DBB8189B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83BB7-4F11-4F0A-B4B7-480264283DA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CFCEA-C4D1-4657-BBE1-30F476CAC85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35BDE-433B-46F9-ACA9-42AEB1BA6D9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2963D-7836-41B5-8283-19AD1ECA7CF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8656B-8713-40DD-81EF-7247A4AA12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C2B48-94FC-4783-BFA5-F39B2F48CD1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FF173-88C3-423A-8AED-FFBC8BC9B89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75C6E-5640-48B8-A75D-D39D3F3B366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8E46D-3D38-4E55-BD29-B30F2D93E02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CE042-99FA-40CF-97AE-8F9642AFFFB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EEC06-89A8-4E28-B989-94F3400244C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78441-5735-4429-879F-28DF2B0B0D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b9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352680" y="6476760"/>
            <a:ext cx="5562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b9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8E77-B6BB-4BDC-93A8-F24157C47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b9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-</a:t>
            </a:r>
            <a:fld id="{0CFC14AE-578B-4B9E-87A6-84D7995325E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ing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429000" y="2438280"/>
            <a:ext cx="5486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Software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ations of Program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AW logo"/>
          <p:cNvPicPr/>
          <p:nvPr/>
        </p:nvPicPr>
        <p:blipFill>
          <a:blip r:embed="rId1"/>
          <a:stretch/>
        </p:blipFill>
        <p:spPr>
          <a:xfrm>
            <a:off x="0" y="6064200"/>
            <a:ext cx="1060560" cy="7938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5181480" y="4836960"/>
            <a:ext cx="367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Lew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iam Lof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Untitled.png"/>
          <p:cNvPicPr/>
          <p:nvPr/>
        </p:nvPicPr>
        <p:blipFill>
          <a:blip r:embed="rId2"/>
          <a:stretch/>
        </p:blipFill>
        <p:spPr>
          <a:xfrm>
            <a:off x="304920" y="1828800"/>
            <a:ext cx="3047760" cy="38098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609480" y="762120"/>
            <a:ext cx="79106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ollingDice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creation and use of a user-defined cla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llingD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two Die objects and rolls them several tim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e die1, die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e1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e2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e1.rol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e2.rol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Die One: " + die1 + ", Die Two: " + die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5"/>
          <p:cNvSpPr/>
          <p:nvPr/>
        </p:nvSpPr>
        <p:spPr>
          <a:xfrm>
            <a:off x="609480" y="53352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Fahrenheit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text fiel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Fr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hrenh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nd displays the temperature converter GU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Fahrenheit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hrenheitPanel panel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hrenheit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(pan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5"/>
          <p:cNvSpPr/>
          <p:nvPr/>
        </p:nvSpPr>
        <p:spPr>
          <a:xfrm>
            <a:off x="609480" y="53352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Fahrenheit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text fiel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Fr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hrenh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nd displays the temperature converter GU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Fahrenheit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hrenheitPanel panel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hrenheit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(pan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Group 12"/>
          <p:cNvGrpSpPr/>
          <p:nvPr/>
        </p:nvGrpSpPr>
        <p:grpSpPr>
          <a:xfrm>
            <a:off x="2286000" y="485640"/>
            <a:ext cx="4495680" cy="1704960"/>
            <a:chOff x="2286000" y="485640"/>
            <a:chExt cx="4495680" cy="1704960"/>
          </a:xfrm>
        </p:grpSpPr>
        <p:sp>
          <p:nvSpPr>
            <p:cNvPr id="583" name="TextBox 5"/>
            <p:cNvSpPr/>
            <p:nvPr/>
          </p:nvSpPr>
          <p:spPr>
            <a:xfrm>
              <a:off x="2286000" y="485640"/>
              <a:ext cx="4495680" cy="1704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" name="Picture 11" descr="Screen shot 2011-02-17 at 2.55.19 PM.png"/>
            <p:cNvPicPr/>
            <p:nvPr/>
          </p:nvPicPr>
          <p:blipFill>
            <a:blip r:embed="rId1"/>
            <a:stretch/>
          </p:blipFill>
          <p:spPr>
            <a:xfrm>
              <a:off x="2619720" y="727560"/>
              <a:ext cx="3797280" cy="1232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5"/>
          <p:cNvSpPr/>
          <p:nvPr/>
        </p:nvSpPr>
        <p:spPr>
          <a:xfrm>
            <a:off x="609480" y="152280"/>
            <a:ext cx="7910640" cy="624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FahrenheitPanel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text fiel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even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hrenheitPanel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xtend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inputLabel, outputLabel, resultLabe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TextField fahrenhe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nstructor: Sets up the main GUI compon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hrenheitPanel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Label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Enter Fahrenheit temperature: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Label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Temperature in Celsius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Label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---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hrenheit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TextField (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hrenheit.addActionListener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istener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5"/>
          <p:cNvSpPr/>
          <p:nvPr/>
        </p:nvSpPr>
        <p:spPr>
          <a:xfrm>
            <a:off x="609480" y="306360"/>
            <a:ext cx="7910640" cy="602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inputLab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fahrenhe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outputLab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resultLab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PreferredSize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mension(300, 75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Background (Color.yellow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an action listener for the temperature input fiel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istener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l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tionListe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erforms the conversion when the enter key is pressed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the text fiel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tionPerformed (ActionEvent ev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hrenheitTemp, celsiusTe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text = fahrenheit.getTex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5"/>
          <p:cNvSpPr/>
          <p:nvPr/>
        </p:nvSpPr>
        <p:spPr>
          <a:xfrm>
            <a:off x="609480" y="1428840"/>
            <a:ext cx="7910640" cy="219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hrenheitTemp = Integer.parseInt (tex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elsiusTemp = (fahrenheitTemp-32) * 5/9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Label.setText (Integer.toString (celsiusTemp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hrenheit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shCoun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ample, the GUI is set up in a separate panel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empListe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ner class defines the listener for the action event generated by the text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hrenheitPan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tructor instantiates the listener and adds it to the text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user types a temperature and presses enter, the text field generates the action event and call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ctionPerform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of the lis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4 focu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c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ion and Java mod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declaration and parameter pa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al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s and liste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tons and text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609480" y="963720"/>
            <a:ext cx="7910640" cy="325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e1.rol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e2.setFaceValue(4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Die One: " + die1 + ", Die Two: " + die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= die1.getFaceValue() + die2.getFaceValu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Sum: " + su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= die1.roll() + die2.rol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Die One: " + die1 + ", Die Two: " + die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New sum: " + su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609480" y="963720"/>
            <a:ext cx="7910640" cy="325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e1.rol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e2.setFaceValue(4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Die One: " + die1 + ", Die Two: " + die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= die1.getFaceValue() + die2.getFaceValu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Sum: " + su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= die1.roll() + die2.rol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Die One: " + die1 + ", Die Two: " + die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New sum: " + su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2833920" y="838080"/>
            <a:ext cx="3048840" cy="2009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Sampl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e One: 5, Die Two: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e One: 1, Die Two: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m: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e One: 4, Die Two: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sum: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"/>
          <p:cNvSpPr/>
          <p:nvPr/>
        </p:nvSpPr>
        <p:spPr>
          <a:xfrm>
            <a:off x="609480" y="685800"/>
            <a:ext cx="7910640" cy="49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ie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one die (singular of dice) with faces showing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between 1 and 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final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 = 6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ximum face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ceValue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urrent value showing on the d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nstructor: Sets the initial face val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ceValue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"/>
          <p:cNvSpPr/>
          <p:nvPr/>
        </p:nvSpPr>
        <p:spPr>
          <a:xfrm>
            <a:off x="609480" y="152280"/>
            <a:ext cx="7910640" cy="624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olls the die and returns the resu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ll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ceValue =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(Math.random() * MAX) +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ceVal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Face value mutat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FaceValue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ceValue = val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Face value access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etFaceValu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ceVal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"/>
          <p:cNvSpPr/>
          <p:nvPr/>
        </p:nvSpPr>
        <p:spPr>
          <a:xfrm>
            <a:off x="609480" y="1023840"/>
            <a:ext cx="7910640" cy="283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turns a string representation of this d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toString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result = Integer.toString(faceVal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Die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contains two data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stan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represents the maximum fac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eg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ce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represents the current fac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o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use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to determine a new face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also methods to explicitly set and retrieve the current face value at any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oString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's good practice to define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for a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returns a character string that represents the object in some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alled automatically when an object is concatenated to a string or when it is passed 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's also convenient for debugging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u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mentioned previously,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stru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used to set up an object when it is initially c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nstructor has the same name as th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tructor is used to set the initial face value of each new die object to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examine constructors in more detail later in this 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Sc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co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data is the area in a program in which that data can be referenced (us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declared at the class level can be referenced by all methods in that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declared within a method can be used only in that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declared within a method is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c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, the variabl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eclared insid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-- it is local to that method and cannot be referenced anywhere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ing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3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've been using predefined classes from the Java API. Now we will learn to write our own class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3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apter 4 focuses on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c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ion and Java mod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declaration and parameter pa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al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s and liste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tons and text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tance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riable declared at the class level (such a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ace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stanc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instance (object) has its own instance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lass declares the type of the data, but it does not reserve memory space for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ime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is created, a new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ce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riable is created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bjects of a class share the method definitions, but each object has its own data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's the only way two objects can have different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tance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depict the tw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 from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ollingD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gram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4"/>
          <p:cNvGrpSpPr/>
          <p:nvPr/>
        </p:nvGrpSpPr>
        <p:grpSpPr>
          <a:xfrm>
            <a:off x="1602000" y="2498760"/>
            <a:ext cx="5167080" cy="1523520"/>
            <a:chOff x="1602000" y="2498760"/>
            <a:chExt cx="5167080" cy="1523520"/>
          </a:xfrm>
        </p:grpSpPr>
        <p:grpSp>
          <p:nvGrpSpPr>
            <p:cNvPr id="193" name="Group 5"/>
            <p:cNvGrpSpPr/>
            <p:nvPr/>
          </p:nvGrpSpPr>
          <p:grpSpPr>
            <a:xfrm>
              <a:off x="1602000" y="2498760"/>
              <a:ext cx="5135400" cy="533160"/>
              <a:chOff x="1602000" y="2498760"/>
              <a:chExt cx="5135400" cy="533160"/>
            </a:xfrm>
          </p:grpSpPr>
          <p:sp>
            <p:nvSpPr>
              <p:cNvPr id="194" name="Rectangle 6"/>
              <p:cNvSpPr/>
              <p:nvPr/>
            </p:nvSpPr>
            <p:spPr>
              <a:xfrm>
                <a:off x="2470320" y="2574720"/>
                <a:ext cx="685800" cy="380520"/>
              </a:xfrm>
              <a:prstGeom prst="rect">
                <a:avLst/>
              </a:prstGeom>
              <a:solidFill>
                <a:srgbClr val="f5e98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7"/>
              <p:cNvSpPr/>
              <p:nvPr/>
            </p:nvSpPr>
            <p:spPr>
              <a:xfrm>
                <a:off x="1602000" y="2566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die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AutoShape 8"/>
              <p:cNvSpPr/>
              <p:nvPr/>
            </p:nvSpPr>
            <p:spPr>
              <a:xfrm>
                <a:off x="3841920" y="2498760"/>
                <a:ext cx="2895480" cy="533160"/>
              </a:xfrm>
              <a:prstGeom prst="roundRect">
                <a:avLst>
                  <a:gd name="adj" fmla="val 16667"/>
                </a:avLst>
              </a:prstGeom>
              <a:solidFill>
                <a:srgbClr val="f5e98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9"/>
              <p:cNvSpPr/>
              <p:nvPr/>
            </p:nvSpPr>
            <p:spPr>
              <a:xfrm>
                <a:off x="2851200" y="27651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0"/>
              <p:cNvSpPr/>
              <p:nvPr/>
            </p:nvSpPr>
            <p:spPr>
              <a:xfrm>
                <a:off x="5746680" y="2574720"/>
                <a:ext cx="685800" cy="380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11"/>
              <p:cNvSpPr/>
              <p:nvPr/>
            </p:nvSpPr>
            <p:spPr>
              <a:xfrm>
                <a:off x="4071960" y="2566800"/>
                <a:ext cx="155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faceValu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12"/>
            <p:cNvGrpSpPr/>
            <p:nvPr/>
          </p:nvGrpSpPr>
          <p:grpSpPr>
            <a:xfrm>
              <a:off x="1633680" y="3489120"/>
              <a:ext cx="5135400" cy="533160"/>
              <a:chOff x="1633680" y="3489120"/>
              <a:chExt cx="5135400" cy="533160"/>
            </a:xfrm>
          </p:grpSpPr>
          <p:sp>
            <p:nvSpPr>
              <p:cNvPr id="201" name="Rectangle 13"/>
              <p:cNvSpPr/>
              <p:nvPr/>
            </p:nvSpPr>
            <p:spPr>
              <a:xfrm>
                <a:off x="2502000" y="3565080"/>
                <a:ext cx="685800" cy="380520"/>
              </a:xfrm>
              <a:prstGeom prst="rect">
                <a:avLst/>
              </a:prstGeom>
              <a:solidFill>
                <a:srgbClr val="f5e98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14"/>
              <p:cNvSpPr/>
              <p:nvPr/>
            </p:nvSpPr>
            <p:spPr>
              <a:xfrm>
                <a:off x="1633680" y="35571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die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AutoShape 15"/>
              <p:cNvSpPr/>
              <p:nvPr/>
            </p:nvSpPr>
            <p:spPr>
              <a:xfrm>
                <a:off x="3873600" y="3489120"/>
                <a:ext cx="2895480" cy="533160"/>
              </a:xfrm>
              <a:prstGeom prst="roundRect">
                <a:avLst>
                  <a:gd name="adj" fmla="val 16667"/>
                </a:avLst>
              </a:prstGeom>
              <a:solidFill>
                <a:srgbClr val="f5e98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6"/>
              <p:cNvSpPr/>
              <p:nvPr/>
            </p:nvSpPr>
            <p:spPr>
              <a:xfrm>
                <a:off x="2882880" y="375552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17"/>
              <p:cNvSpPr/>
              <p:nvPr/>
            </p:nvSpPr>
            <p:spPr>
              <a:xfrm>
                <a:off x="5778720" y="3565080"/>
                <a:ext cx="685800" cy="380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Text Box 18"/>
              <p:cNvSpPr/>
              <p:nvPr/>
            </p:nvSpPr>
            <p:spPr>
              <a:xfrm>
                <a:off x="4103640" y="3557160"/>
                <a:ext cx="155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faceValu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7" name="Text Box 19"/>
          <p:cNvSpPr/>
          <p:nvPr/>
        </p:nvSpPr>
        <p:spPr>
          <a:xfrm>
            <a:off x="1371600" y="447984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Each object maintains its own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faceValue</a:t>
            </a: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 variable, and thus its own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20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ML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L stands for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ified Modeling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ML diagra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 relationships among classes and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M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ass dia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ists of one or more classes, each with sections for the class name, attributes (data), and operations (metho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s between classes represe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otted arrow shows that one clas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other (calls its metho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ML Class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4549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ML class diagram for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ollingD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17"/>
          <p:cNvGrpSpPr/>
          <p:nvPr/>
        </p:nvGrpSpPr>
        <p:grpSpPr>
          <a:xfrm>
            <a:off x="914400" y="2748240"/>
            <a:ext cx="7162920" cy="2052360"/>
            <a:chOff x="914400" y="2748240"/>
            <a:chExt cx="7162920" cy="2052360"/>
          </a:xfrm>
        </p:grpSpPr>
        <p:sp>
          <p:nvSpPr>
            <p:cNvPr id="215" name="Rectangle 5"/>
            <p:cNvSpPr/>
            <p:nvPr/>
          </p:nvSpPr>
          <p:spPr>
            <a:xfrm>
              <a:off x="914400" y="2748240"/>
              <a:ext cx="3048120" cy="39888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RollingD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6"/>
            <p:cNvSpPr/>
            <p:nvPr/>
          </p:nvSpPr>
          <p:spPr>
            <a:xfrm>
              <a:off x="914400" y="3152520"/>
              <a:ext cx="3048120" cy="30492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7"/>
            <p:cNvSpPr/>
            <p:nvPr/>
          </p:nvSpPr>
          <p:spPr>
            <a:xfrm>
              <a:off x="914400" y="3443040"/>
              <a:ext cx="3048120" cy="47160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main (args : String[]) : vo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8"/>
            <p:cNvSpPr/>
            <p:nvPr/>
          </p:nvSpPr>
          <p:spPr>
            <a:xfrm>
              <a:off x="4800600" y="2762640"/>
              <a:ext cx="3276720" cy="39888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Di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9"/>
            <p:cNvSpPr/>
            <p:nvPr/>
          </p:nvSpPr>
          <p:spPr>
            <a:xfrm>
              <a:off x="4800600" y="3166920"/>
              <a:ext cx="3276720" cy="44280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faceValue : 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0"/>
            <p:cNvSpPr/>
            <p:nvPr/>
          </p:nvSpPr>
          <p:spPr>
            <a:xfrm>
              <a:off x="4800600" y="3609720"/>
              <a:ext cx="3276720" cy="119088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roll() : 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setFaceValue (int value) : vo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getFaceValue() : 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toString() : St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1"/>
            <p:cNvSpPr/>
            <p:nvPr/>
          </p:nvSpPr>
          <p:spPr>
            <a:xfrm>
              <a:off x="3962520" y="297180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5"/>
          <p:cNvSpPr/>
          <p:nvPr/>
        </p:nvSpPr>
        <p:spPr>
          <a:xfrm>
            <a:off x="304920" y="1066680"/>
            <a:ext cx="8686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relationship between a class and an obj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5"/>
          <p:cNvSpPr/>
          <p:nvPr/>
        </p:nvSpPr>
        <p:spPr>
          <a:xfrm>
            <a:off x="304920" y="1066680"/>
            <a:ext cx="8686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relationship between a class and an obj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685800" y="2209680"/>
            <a:ext cx="8001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lass is the definition/pattern/blueprint of an object. It defines the data that will be managed by an object but doesn't reserve memory space for it. Multiple objects can be created from a class, and each object has its own copy of the instance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304920" y="1066680"/>
            <a:ext cx="8686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is instance data declar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cope of instance d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local d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5"/>
          <p:cNvSpPr/>
          <p:nvPr/>
        </p:nvSpPr>
        <p:spPr>
          <a:xfrm>
            <a:off x="304920" y="1066680"/>
            <a:ext cx="8686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is instance data declar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cope of instance d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local d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5"/>
          <p:cNvSpPr/>
          <p:nvPr/>
        </p:nvSpPr>
        <p:spPr>
          <a:xfrm>
            <a:off x="685800" y="1676520"/>
            <a:ext cx="8001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class le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 be referenced in any method of the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data is declared within a method, and is only accessible in that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2667600" y="1681200"/>
            <a:ext cx="387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tomy of a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tomy of a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al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al User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tons and Text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1828800" y="22906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take one of two views of an obje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 -  the details of the variables and methods of the class that defin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  -  the services that an object provides and how the object interacts with the rest of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external view, an object is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capsul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tity, providing a set of specific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services define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667600" y="1681200"/>
            <a:ext cx="387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tomy of a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tomy of a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al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al User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tons and Text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1828800" y="175896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bject (calle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may use another object for the services it prov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ient of an object may request its services (call its methods), but it should not have to be aware of how those services are accomplis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changes to the object's state (its variables) should be made by that object's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hould make it difficult, if not impossible, for a client to access an object’s variables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s, an object should b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lf-gove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5"/>
          <p:cNvGrpSpPr/>
          <p:nvPr/>
        </p:nvGrpSpPr>
        <p:grpSpPr>
          <a:xfrm>
            <a:off x="3732120" y="3581280"/>
            <a:ext cx="2895480" cy="2514600"/>
            <a:chOff x="3732120" y="3581280"/>
            <a:chExt cx="2895480" cy="2514600"/>
          </a:xfrm>
        </p:grpSpPr>
        <p:sp>
          <p:nvSpPr>
            <p:cNvPr id="247" name="Rectangle 3"/>
            <p:cNvSpPr/>
            <p:nvPr/>
          </p:nvSpPr>
          <p:spPr>
            <a:xfrm>
              <a:off x="4189320" y="3581280"/>
              <a:ext cx="2438280" cy="2514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4"/>
            <p:cNvSpPr/>
            <p:nvPr/>
          </p:nvSpPr>
          <p:spPr>
            <a:xfrm flipH="1">
              <a:off x="3808080" y="3962520"/>
              <a:ext cx="6094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5"/>
            <p:cNvSpPr/>
            <p:nvPr/>
          </p:nvSpPr>
          <p:spPr>
            <a:xfrm>
              <a:off x="3732120" y="3886200"/>
              <a:ext cx="152280" cy="152280"/>
            </a:xfrm>
            <a:prstGeom prst="ellipse">
              <a:avLst/>
            </a:prstGeom>
            <a:solidFill>
              <a:srgbClr val="de2c28"/>
            </a:solidFill>
            <a:ln w="12600">
              <a:solidFill>
                <a:srgbClr val="de2c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6"/>
            <p:cNvSpPr/>
            <p:nvPr/>
          </p:nvSpPr>
          <p:spPr>
            <a:xfrm flipH="1">
              <a:off x="3808080" y="4191120"/>
              <a:ext cx="6094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7"/>
            <p:cNvSpPr/>
            <p:nvPr/>
          </p:nvSpPr>
          <p:spPr>
            <a:xfrm flipH="1">
              <a:off x="3808080" y="4419720"/>
              <a:ext cx="6094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8"/>
            <p:cNvSpPr/>
            <p:nvPr/>
          </p:nvSpPr>
          <p:spPr>
            <a:xfrm>
              <a:off x="3732120" y="4343400"/>
              <a:ext cx="152280" cy="152280"/>
            </a:xfrm>
            <a:prstGeom prst="ellipse">
              <a:avLst/>
            </a:prstGeom>
            <a:solidFill>
              <a:srgbClr val="de2c28"/>
            </a:solidFill>
            <a:ln w="12600">
              <a:solidFill>
                <a:srgbClr val="de2c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9"/>
            <p:cNvSpPr/>
            <p:nvPr/>
          </p:nvSpPr>
          <p:spPr>
            <a:xfrm>
              <a:off x="3732120" y="4114800"/>
              <a:ext cx="152280" cy="152280"/>
            </a:xfrm>
            <a:prstGeom prst="ellipse">
              <a:avLst/>
            </a:prstGeom>
            <a:solidFill>
              <a:srgbClr val="de2c28"/>
            </a:solidFill>
            <a:ln w="12600">
              <a:solidFill>
                <a:srgbClr val="de2c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ncapsulated object can be thought of a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lack bo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 its inner workings are hidden from the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ient invokes the interface methods and they manage the instanc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24"/>
          <p:cNvGrpSpPr/>
          <p:nvPr/>
        </p:nvGrpSpPr>
        <p:grpSpPr>
          <a:xfrm>
            <a:off x="4417920" y="3809880"/>
            <a:ext cx="1981080" cy="2057400"/>
            <a:chOff x="4417920" y="3809880"/>
            <a:chExt cx="1981080" cy="2057400"/>
          </a:xfrm>
        </p:grpSpPr>
        <p:sp>
          <p:nvSpPr>
            <p:cNvPr id="257" name="Rectangle 14"/>
            <p:cNvSpPr/>
            <p:nvPr/>
          </p:nvSpPr>
          <p:spPr>
            <a:xfrm>
              <a:off x="4417920" y="3809880"/>
              <a:ext cx="1981080" cy="762120"/>
            </a:xfrm>
            <a:prstGeom prst="rect">
              <a:avLst/>
            </a:prstGeom>
            <a:solidFill>
              <a:srgbClr val="f5e985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tho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5"/>
            <p:cNvSpPr/>
            <p:nvPr/>
          </p:nvSpPr>
          <p:spPr>
            <a:xfrm>
              <a:off x="4417920" y="5181480"/>
              <a:ext cx="1981080" cy="685800"/>
            </a:xfrm>
            <a:prstGeom prst="rect">
              <a:avLst/>
            </a:prstGeom>
            <a:solidFill>
              <a:srgbClr val="f5e985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16"/>
            <p:cNvSpPr/>
            <p:nvPr/>
          </p:nvSpPr>
          <p:spPr>
            <a:xfrm>
              <a:off x="5332320" y="4572000"/>
              <a:ext cx="228600" cy="609480"/>
            </a:xfrm>
            <a:prstGeom prst="upDownArrow">
              <a:avLst>
                <a:gd name="adj1" fmla="val 50000"/>
                <a:gd name="adj2" fmla="val 53076"/>
              </a:avLst>
            </a:prstGeom>
            <a:solidFill>
              <a:srgbClr val="de2c28"/>
            </a:solidFill>
            <a:ln w="12600">
              <a:solidFill>
                <a:srgbClr val="de2c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23"/>
          <p:cNvGrpSpPr/>
          <p:nvPr/>
        </p:nvGrpSpPr>
        <p:grpSpPr>
          <a:xfrm>
            <a:off x="1564200" y="3942360"/>
            <a:ext cx="2015640" cy="398880"/>
            <a:chOff x="1564200" y="3942360"/>
            <a:chExt cx="2015640" cy="398880"/>
          </a:xfrm>
        </p:grpSpPr>
        <p:sp>
          <p:nvSpPr>
            <p:cNvPr id="261" name="Text Box 12"/>
            <p:cNvSpPr/>
            <p:nvPr/>
          </p:nvSpPr>
          <p:spPr>
            <a:xfrm>
              <a:off x="1564200" y="3942360"/>
              <a:ext cx="92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Verdana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22"/>
            <p:cNvSpPr/>
            <p:nvPr/>
          </p:nvSpPr>
          <p:spPr>
            <a:xfrm>
              <a:off x="2589120" y="4038480"/>
              <a:ext cx="990720" cy="228600"/>
            </a:xfrm>
            <a:prstGeom prst="leftRightArrow">
              <a:avLst>
                <a:gd name="adj1" fmla="val 50000"/>
                <a:gd name="adj2" fmla="val 8627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Footer Placeholder 19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sibility Modif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Java, we accomplish encapsulation through the appropriate us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isibility mod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difi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Java reserved word that specifies particular characteristics of a method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've used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difier to define cons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has three visibility modifiers: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difier involves inheritance, which we will discuss l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sibility Modif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of a class that are declared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ublic visi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referenced any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of a class that are declared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ivate visi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referenced only within that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declared without a visibility modifier hav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fault visi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an be referenced by any class in the same 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verview of all Java modifiers is presented in Appendix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sibility Modif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variables violate encapsulation because they allow the client to modify the values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instance variables should not be declared with public vi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cceptable to give a constant public visibility, which allows it to be used outside of th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constants do not violate encapsulation because, although the client can access it, its value cannot be 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sibility Modif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 that provide the object's services are declared with public visibility so that they can be invoked by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methods are also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rvice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hod created simply to assist a service method is called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pport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a support method is not intended to be called by a client, it should not be declared with public vi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sibility Modif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21"/>
          <p:cNvGrpSpPr/>
          <p:nvPr/>
        </p:nvGrpSpPr>
        <p:grpSpPr>
          <a:xfrm>
            <a:off x="760680" y="1600200"/>
            <a:ext cx="7164000" cy="3276720"/>
            <a:chOff x="760680" y="1600200"/>
            <a:chExt cx="7164000" cy="3276720"/>
          </a:xfrm>
        </p:grpSpPr>
        <p:sp>
          <p:nvSpPr>
            <p:cNvPr id="278" name="Text Box 4"/>
            <p:cNvSpPr/>
            <p:nvPr/>
          </p:nvSpPr>
          <p:spPr>
            <a:xfrm>
              <a:off x="3065040" y="16002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5"/>
            <p:cNvSpPr/>
            <p:nvPr/>
          </p:nvSpPr>
          <p:spPr>
            <a:xfrm>
              <a:off x="5715360" y="16002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6"/>
            <p:cNvSpPr/>
            <p:nvPr/>
          </p:nvSpPr>
          <p:spPr>
            <a:xfrm>
              <a:off x="760680" y="2590920"/>
              <a:ext cx="136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Verdana"/>
                </a:rPr>
                <a:t>Variab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7"/>
            <p:cNvSpPr/>
            <p:nvPr/>
          </p:nvSpPr>
          <p:spPr>
            <a:xfrm>
              <a:off x="887400" y="3962520"/>
              <a:ext cx="129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Verdana"/>
                </a:rPr>
                <a:t>Metho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0"/>
            <p:cNvSpPr/>
            <p:nvPr/>
          </p:nvSpPr>
          <p:spPr>
            <a:xfrm>
              <a:off x="2286000" y="2133720"/>
              <a:ext cx="2819160" cy="13716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8"/>
            <p:cNvSpPr/>
            <p:nvPr/>
          </p:nvSpPr>
          <p:spPr>
            <a:xfrm>
              <a:off x="5105160" y="2133720"/>
              <a:ext cx="2819520" cy="13716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9"/>
            <p:cNvSpPr/>
            <p:nvPr/>
          </p:nvSpPr>
          <p:spPr>
            <a:xfrm>
              <a:off x="2286000" y="3505320"/>
              <a:ext cx="2819160" cy="13716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20"/>
            <p:cNvSpPr/>
            <p:nvPr/>
          </p:nvSpPr>
          <p:spPr>
            <a:xfrm>
              <a:off x="5105160" y="3505320"/>
              <a:ext cx="2819520" cy="13716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16"/>
          <p:cNvSpPr/>
          <p:nvPr/>
        </p:nvSpPr>
        <p:spPr>
          <a:xfrm>
            <a:off x="2396160" y="3780000"/>
            <a:ext cx="26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5334840" y="3597120"/>
            <a:ext cx="234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s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5401080" y="2408400"/>
            <a:ext cx="222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2581920" y="2408400"/>
            <a:ext cx="222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o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oter Placeholder 1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essors and Mut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instance data is private, a class usually provides services to access and modify data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cessor meth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turns the current value of a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utator meth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ges the value of a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ames of accessor and mutator methods take the form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t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espectively, wher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name of the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sometimes called “getters” and “sett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tator Restri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se of mutators gives the class designer the ability to restrict a client’s options to modify an object’s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utator is often designed so that the values of variables can be set only within particular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Face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tator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should restrict the value to the valid range (1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ll see in Chapter 5 how such restrictions can be implem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5"/>
          <p:cNvSpPr/>
          <p:nvPr/>
        </p:nvSpPr>
        <p:spPr>
          <a:xfrm>
            <a:off x="304920" y="1066680"/>
            <a:ext cx="8686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wa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ace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riable declared a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ok to declar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ing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grams we’ve written in previous examples have used classes defined in the Java standard class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we will begin to design programs that rely on classes that we write ourse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ass that contain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is just the starting point of 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object-oriented programming is based on defining classes that represent objects with well-defined characteristics and function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5"/>
          <p:cNvSpPr/>
          <p:nvPr/>
        </p:nvSpPr>
        <p:spPr>
          <a:xfrm>
            <a:off x="304920" y="1066680"/>
            <a:ext cx="8686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wa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ace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riable declared a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ok to declar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5"/>
          <p:cNvSpPr/>
          <p:nvPr/>
        </p:nvSpPr>
        <p:spPr>
          <a:xfrm>
            <a:off x="685800" y="2133720"/>
            <a:ext cx="8001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making it private, eac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controls its own data and allows it to be modified only by the well-defined operations it prov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onstant. Its value cannot be changed. Therefore, there is no violation of encaps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2667600" y="1909800"/>
            <a:ext cx="387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tomy of a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tomy of a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al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al User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tons and Text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1828800" y="3092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 Decl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now examine methods in more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thod decla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fies the code that will be executed when the method is invoked (call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method is invoked, the flow of control jumps to the method and executes its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lete, the flow returns to the place where the method was called and contin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vocation may or may not return a value, depending on how the method is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2"/>
          <p:cNvGrpSpPr/>
          <p:nvPr/>
        </p:nvGrpSpPr>
        <p:grpSpPr>
          <a:xfrm>
            <a:off x="1447920" y="2438280"/>
            <a:ext cx="6019560" cy="3581280"/>
            <a:chOff x="1447920" y="2438280"/>
            <a:chExt cx="6019560" cy="3581280"/>
          </a:xfrm>
        </p:grpSpPr>
        <p:sp>
          <p:nvSpPr>
            <p:cNvPr id="312" name="AutoShape 3"/>
            <p:cNvSpPr/>
            <p:nvPr/>
          </p:nvSpPr>
          <p:spPr>
            <a:xfrm>
              <a:off x="1447920" y="2438280"/>
              <a:ext cx="6019560" cy="3581280"/>
            </a:xfrm>
            <a:prstGeom prst="flowChartAlternateProcess">
              <a:avLst/>
            </a:prstGeom>
            <a:solidFill>
              <a:srgbClr val="cc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4"/>
            <p:cNvSpPr/>
            <p:nvPr/>
          </p:nvSpPr>
          <p:spPr>
            <a:xfrm>
              <a:off x="2209680" y="3200400"/>
              <a:ext cx="1599840" cy="236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5"/>
            <p:cNvSpPr/>
            <p:nvPr/>
          </p:nvSpPr>
          <p:spPr>
            <a:xfrm>
              <a:off x="4952880" y="3200400"/>
              <a:ext cx="1599840" cy="1828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6"/>
            <p:cNvSpPr/>
            <p:nvPr/>
          </p:nvSpPr>
          <p:spPr>
            <a:xfrm>
              <a:off x="2247840" y="403812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yMethod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7"/>
            <p:cNvSpPr/>
            <p:nvPr/>
          </p:nvSpPr>
          <p:spPr>
            <a:xfrm>
              <a:off x="5167440" y="281880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yMetho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8"/>
            <p:cNvSpPr/>
            <p:nvPr/>
          </p:nvSpPr>
          <p:spPr>
            <a:xfrm>
              <a:off x="2503440" y="2818800"/>
              <a:ext cx="103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mpu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9"/>
            <p:cNvSpPr/>
            <p:nvPr/>
          </p:nvSpPr>
          <p:spPr>
            <a:xfrm>
              <a:off x="5643000" y="319968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10"/>
            <p:cNvSpPr/>
            <p:nvPr/>
          </p:nvSpPr>
          <p:spPr>
            <a:xfrm>
              <a:off x="5563080" y="4799880"/>
              <a:ext cx="40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11"/>
            <p:cNvSpPr/>
            <p:nvPr/>
          </p:nvSpPr>
          <p:spPr>
            <a:xfrm>
              <a:off x="2887200" y="434268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 Control Fl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called method is in the same class, only the method name i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3" name="AutoShape 14"/>
          <p:cNvCxnSpPr>
            <a:stCxn id="313" idx="0"/>
            <a:endCxn id="315" idx="0"/>
          </p:cNvCxnSpPr>
          <p:nvPr/>
        </p:nvCxnSpPr>
        <p:spPr>
          <a:xfrm flipH="1">
            <a:off x="3009240" y="3200400"/>
            <a:ext cx="1080" cy="8388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24" name="AutoShape 15"/>
          <p:cNvCxnSpPr>
            <a:endCxn id="313" idx="2"/>
          </p:cNvCxnSpPr>
          <p:nvPr/>
        </p:nvCxnSpPr>
        <p:spPr>
          <a:xfrm>
            <a:off x="3009600" y="4664160"/>
            <a:ext cx="1080" cy="89928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25" name="AutoShape 16"/>
          <p:cNvCxnSpPr>
            <a:stCxn id="315" idx="3"/>
            <a:endCxn id="318" idx="1"/>
          </p:cNvCxnSpPr>
          <p:nvPr/>
        </p:nvCxnSpPr>
        <p:spPr>
          <a:xfrm flipV="1">
            <a:off x="3772080" y="3322440"/>
            <a:ext cx="1870560" cy="884880"/>
          </a:xfrm>
          <a:prstGeom prst="bentConnector3">
            <a:avLst>
              <a:gd name="adj1" fmla="val 36515"/>
            </a:avLst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26" name="AutoShape 17"/>
          <p:cNvCxnSpPr>
            <a:stCxn id="318" idx="2"/>
            <a:endCxn id="319" idx="0"/>
          </p:cNvCxnSpPr>
          <p:nvPr/>
        </p:nvCxnSpPr>
        <p:spPr>
          <a:xfrm flipH="1">
            <a:off x="5765040" y="3444840"/>
            <a:ext cx="2520" cy="135612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27" name="AutoShape 18"/>
          <p:cNvCxnSpPr/>
          <p:nvPr/>
        </p:nvCxnSpPr>
        <p:spPr>
          <a:xfrm rot="10800000">
            <a:off x="3225240" y="4494960"/>
            <a:ext cx="2413440" cy="381960"/>
          </a:xfrm>
          <a:prstGeom prst="bentConnector3">
            <a:avLst>
              <a:gd name="adj1" fmla="val 49425"/>
            </a:avLst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28" name="Footer Placeholder 19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2"/>
          <p:cNvGrpSpPr/>
          <p:nvPr/>
        </p:nvGrpSpPr>
        <p:grpSpPr>
          <a:xfrm>
            <a:off x="3581280" y="2286000"/>
            <a:ext cx="4572000" cy="3352680"/>
            <a:chOff x="3581280" y="2286000"/>
            <a:chExt cx="4572000" cy="3352680"/>
          </a:xfrm>
        </p:grpSpPr>
        <p:grpSp>
          <p:nvGrpSpPr>
            <p:cNvPr id="330" name="Group 3"/>
            <p:cNvGrpSpPr/>
            <p:nvPr/>
          </p:nvGrpSpPr>
          <p:grpSpPr>
            <a:xfrm>
              <a:off x="3581280" y="2286000"/>
              <a:ext cx="4572000" cy="3352680"/>
              <a:chOff x="3581280" y="2286000"/>
              <a:chExt cx="4572000" cy="3352680"/>
            </a:xfrm>
          </p:grpSpPr>
          <p:sp>
            <p:nvSpPr>
              <p:cNvPr id="331" name="AutoShape 4"/>
              <p:cNvSpPr/>
              <p:nvPr/>
            </p:nvSpPr>
            <p:spPr>
              <a:xfrm>
                <a:off x="3581280" y="2286000"/>
                <a:ext cx="4572000" cy="3352680"/>
              </a:xfrm>
              <a:prstGeom prst="flowChartAlternateProcess">
                <a:avLst/>
              </a:prstGeom>
              <a:solidFill>
                <a:srgbClr val="ccffff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Text Box 5"/>
              <p:cNvSpPr/>
              <p:nvPr/>
            </p:nvSpPr>
            <p:spPr>
              <a:xfrm>
                <a:off x="4516200" y="266652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do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6"/>
              <p:cNvSpPr/>
              <p:nvPr/>
            </p:nvSpPr>
            <p:spPr>
              <a:xfrm>
                <a:off x="4038480" y="3047760"/>
                <a:ext cx="1600200" cy="2133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7"/>
              <p:cNvSpPr/>
              <p:nvPr/>
            </p:nvSpPr>
            <p:spPr>
              <a:xfrm>
                <a:off x="6172200" y="3047760"/>
                <a:ext cx="1600200" cy="1599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 Box 8"/>
              <p:cNvSpPr/>
              <p:nvPr/>
            </p:nvSpPr>
            <p:spPr>
              <a:xfrm>
                <a:off x="4716000" y="30466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9"/>
              <p:cNvSpPr/>
              <p:nvPr/>
            </p:nvSpPr>
            <p:spPr>
              <a:xfrm>
                <a:off x="4732200" y="4951800"/>
                <a:ext cx="212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 Box 10"/>
              <p:cNvSpPr/>
              <p:nvPr/>
            </p:nvSpPr>
            <p:spPr>
              <a:xfrm>
                <a:off x="6513480" y="2666520"/>
                <a:ext cx="912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helpM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Text Box 11"/>
              <p:cNvSpPr/>
              <p:nvPr/>
            </p:nvSpPr>
            <p:spPr>
              <a:xfrm>
                <a:off x="4198680" y="3809520"/>
                <a:ext cx="127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helpMe();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Text Box 12"/>
              <p:cNvSpPr/>
              <p:nvPr/>
            </p:nvSpPr>
            <p:spPr>
              <a:xfrm>
                <a:off x="6865560" y="4418280"/>
                <a:ext cx="212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Text Box 13"/>
              <p:cNvSpPr/>
              <p:nvPr/>
            </p:nvSpPr>
            <p:spPr>
              <a:xfrm>
                <a:off x="6849720" y="30466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Text Box 14"/>
            <p:cNvSpPr/>
            <p:nvPr/>
          </p:nvSpPr>
          <p:spPr>
            <a:xfrm>
              <a:off x="4732200" y="4113360"/>
              <a:ext cx="212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15"/>
          <p:cNvGrpSpPr/>
          <p:nvPr/>
        </p:nvGrpSpPr>
        <p:grpSpPr>
          <a:xfrm>
            <a:off x="914400" y="2286000"/>
            <a:ext cx="2362320" cy="3657600"/>
            <a:chOff x="914400" y="2286000"/>
            <a:chExt cx="2362320" cy="3657600"/>
          </a:xfrm>
        </p:grpSpPr>
        <p:sp>
          <p:nvSpPr>
            <p:cNvPr id="343" name="AutoShape 16"/>
            <p:cNvSpPr/>
            <p:nvPr/>
          </p:nvSpPr>
          <p:spPr>
            <a:xfrm>
              <a:off x="914400" y="2286000"/>
              <a:ext cx="2362320" cy="3657600"/>
            </a:xfrm>
            <a:prstGeom prst="flowChartAlternateProcess">
              <a:avLst/>
            </a:prstGeom>
            <a:solidFill>
              <a:srgbClr val="cc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7"/>
            <p:cNvSpPr/>
            <p:nvPr/>
          </p:nvSpPr>
          <p:spPr>
            <a:xfrm>
              <a:off x="1300320" y="3048120"/>
              <a:ext cx="1600200" cy="236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18"/>
            <p:cNvSpPr/>
            <p:nvPr/>
          </p:nvSpPr>
          <p:spPr>
            <a:xfrm>
              <a:off x="1340280" y="388584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bj.doIt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9"/>
            <p:cNvSpPr/>
            <p:nvPr/>
          </p:nvSpPr>
          <p:spPr>
            <a:xfrm>
              <a:off x="1832040" y="26665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20"/>
            <p:cNvSpPr/>
            <p:nvPr/>
          </p:nvSpPr>
          <p:spPr>
            <a:xfrm>
              <a:off x="1994040" y="4190400"/>
              <a:ext cx="212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 Control Fl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lled method is often part of another class or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0" name="AutoShape 23"/>
          <p:cNvCxnSpPr/>
          <p:nvPr/>
        </p:nvCxnSpPr>
        <p:spPr>
          <a:xfrm>
            <a:off x="2100240" y="3048120"/>
            <a:ext cx="2160" cy="8388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51" name="AutoShape 24"/>
          <p:cNvCxnSpPr/>
          <p:nvPr/>
        </p:nvCxnSpPr>
        <p:spPr>
          <a:xfrm>
            <a:off x="2099880" y="4435200"/>
            <a:ext cx="1080" cy="97524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52" name="AutoShape 25"/>
          <p:cNvCxnSpPr/>
          <p:nvPr/>
        </p:nvCxnSpPr>
        <p:spPr>
          <a:xfrm rot="10800000">
            <a:off x="2207520" y="4312440"/>
            <a:ext cx="2523240" cy="762840"/>
          </a:xfrm>
          <a:prstGeom prst="bentConnector3">
            <a:avLst>
              <a:gd name="adj1" fmla="val 49957"/>
            </a:avLst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53" name="AutoShape 26"/>
          <p:cNvCxnSpPr/>
          <p:nvPr/>
        </p:nvCxnSpPr>
        <p:spPr>
          <a:xfrm>
            <a:off x="6972120" y="3292200"/>
            <a:ext cx="1080" cy="112788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54" name="AutoShape 27"/>
          <p:cNvCxnSpPr/>
          <p:nvPr/>
        </p:nvCxnSpPr>
        <p:spPr>
          <a:xfrm>
            <a:off x="4838400" y="3292200"/>
            <a:ext cx="1080" cy="51804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55" name="AutoShape 28"/>
          <p:cNvCxnSpPr/>
          <p:nvPr/>
        </p:nvCxnSpPr>
        <p:spPr>
          <a:xfrm>
            <a:off x="4838400" y="4358880"/>
            <a:ext cx="1080" cy="59436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56" name="AutoShape 29"/>
          <p:cNvCxnSpPr/>
          <p:nvPr/>
        </p:nvCxnSpPr>
        <p:spPr>
          <a:xfrm flipV="1">
            <a:off x="5478480" y="3169440"/>
            <a:ext cx="1370880" cy="808920"/>
          </a:xfrm>
          <a:prstGeom prst="bentConnector3">
            <a:avLst>
              <a:gd name="adj1" fmla="val 36984"/>
            </a:avLst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57" name="AutoShape 30"/>
          <p:cNvCxnSpPr/>
          <p:nvPr/>
        </p:nvCxnSpPr>
        <p:spPr>
          <a:xfrm flipV="1" rot="10800000">
            <a:off x="2863080" y="3169800"/>
            <a:ext cx="1851840" cy="884880"/>
          </a:xfrm>
          <a:prstGeom prst="bentConnector3">
            <a:avLst>
              <a:gd name="adj1" fmla="val 68150"/>
            </a:avLst>
          </a:prstGeom>
          <a:ln w="3168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358" name="AutoShape 31"/>
          <p:cNvCxnSpPr/>
          <p:nvPr/>
        </p:nvCxnSpPr>
        <p:spPr>
          <a:xfrm rot="10800000">
            <a:off x="4952160" y="4266360"/>
            <a:ext cx="1918440" cy="305640"/>
          </a:xfrm>
          <a:prstGeom prst="bentConnector3">
            <a:avLst>
              <a:gd name="adj1" fmla="val 46096"/>
            </a:avLst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59" name="Footer Placeholder 32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 Hea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hod declaration begins wit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thod 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845640" y="2133720"/>
            <a:ext cx="71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cha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c (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1,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2, String mess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1466640" y="3065400"/>
            <a:ext cx="10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"/>
          <p:cNvSpPr/>
          <p:nvPr/>
        </p:nvSpPr>
        <p:spPr>
          <a:xfrm flipV="1">
            <a:off x="1986120" y="2590920"/>
            <a:ext cx="0" cy="4572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782280" y="4056120"/>
            <a:ext cx="9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8"/>
          <p:cNvSpPr/>
          <p:nvPr/>
        </p:nvSpPr>
        <p:spPr>
          <a:xfrm flipV="1">
            <a:off x="1224000" y="2590560"/>
            <a:ext cx="0" cy="14475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9"/>
          <p:cNvSpPr/>
          <p:nvPr/>
        </p:nvSpPr>
        <p:spPr>
          <a:xfrm rot="16200000">
            <a:off x="5059080" y="380520"/>
            <a:ext cx="304920" cy="5029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1040 h 5029200"/>
              <a:gd name="textAreaBottom" fmla="*/ 4898160 h 502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03"/>
                </a:lnTo>
                <a:cubicBezTo>
                  <a:pt x="10800" y="10003"/>
                  <a:pt x="5400" y="10903"/>
                  <a:pt x="0" y="10903"/>
                </a:cubicBezTo>
                <a:cubicBezTo>
                  <a:pt x="5400" y="10903"/>
                  <a:pt x="10800" y="11803"/>
                  <a:pt x="10800" y="1270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"/>
          <p:cNvSpPr/>
          <p:nvPr/>
        </p:nvSpPr>
        <p:spPr>
          <a:xfrm>
            <a:off x="3624120" y="32004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parameter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1"/>
          <p:cNvSpPr/>
          <p:nvPr/>
        </p:nvSpPr>
        <p:spPr>
          <a:xfrm>
            <a:off x="3035520" y="3979800"/>
            <a:ext cx="4760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The parameter list specifies th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and name of each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The name of a parameter in the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declaration is called a </a:t>
            </a:r>
            <a:r>
              <a:rPr b="1" i="1" lang="en-US" sz="1800" spc="-1" strike="noStrike">
                <a:solidFill>
                  <a:srgbClr val="008000"/>
                </a:solidFill>
                <a:latin typeface="Verdana"/>
              </a:rPr>
              <a:t>formal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12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hod header is followed by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thod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840600" y="2114640"/>
            <a:ext cx="71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cha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c (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1,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2, String mess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862920" y="2517840"/>
            <a:ext cx="5972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 = num1 + num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cha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sult = message.charAt (sum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su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1418040" y="4875120"/>
            <a:ext cx="293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The return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must be consistent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the return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"/>
          <p:cNvSpPr/>
          <p:nvPr/>
        </p:nvSpPr>
        <p:spPr>
          <a:xfrm flipV="1">
            <a:off x="2882880" y="4324320"/>
            <a:ext cx="0" cy="53352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8"/>
          <p:cNvSpPr/>
          <p:nvPr/>
        </p:nvSpPr>
        <p:spPr>
          <a:xfrm>
            <a:off x="4952880" y="3809880"/>
            <a:ext cx="297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1" lang="en-US" sz="18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are loc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They are created each time the method is called, and are destroyed when it finishes exec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9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turn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turn 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method indicates the type of value that the method sends back to the calling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hod that does not return a value has a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voi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turn stat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fies the value that will be retu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expression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s expression must conform to the return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method is called,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tual parame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invocation are copied into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mal parame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method 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970920" y="3863880"/>
            <a:ext cx="7191000" cy="2326680"/>
            <a:chOff x="970920" y="3863880"/>
            <a:chExt cx="7191000" cy="2326680"/>
          </a:xfrm>
        </p:grpSpPr>
        <p:sp>
          <p:nvSpPr>
            <p:cNvPr id="385" name="Text Box 5"/>
            <p:cNvSpPr/>
            <p:nvPr/>
          </p:nvSpPr>
          <p:spPr>
            <a:xfrm>
              <a:off x="970920" y="3863880"/>
              <a:ext cx="719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Courier New"/>
                </a:rPr>
                <a:t>char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alc (</a:t>
              </a:r>
              <a:r>
                <a:rPr b="1" lang="en-US" sz="2000" spc="-1" strike="noStrike">
                  <a:solidFill>
                    <a:srgbClr val="3366ff"/>
                  </a:solidFill>
                  <a:latin typeface="Courier New"/>
                </a:rPr>
                <a:t>int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num1, </a:t>
              </a:r>
              <a:r>
                <a:rPr b="1" lang="en-US" sz="2000" spc="-1" strike="noStrike">
                  <a:solidFill>
                    <a:srgbClr val="3366ff"/>
                  </a:solidFill>
                  <a:latin typeface="Courier New"/>
                </a:rPr>
                <a:t>int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num2, String messag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6"/>
            <p:cNvSpPr/>
            <p:nvPr/>
          </p:nvSpPr>
          <p:spPr>
            <a:xfrm>
              <a:off x="992880" y="4267080"/>
              <a:ext cx="597204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2000" spc="-1" strike="noStrike">
                  <a:solidFill>
                    <a:srgbClr val="3366ff"/>
                  </a:solidFill>
                  <a:latin typeface="Courier New"/>
                </a:rPr>
                <a:t>int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sum = num1 + num2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2000" spc="-1" strike="noStrike">
                  <a:solidFill>
                    <a:srgbClr val="3366ff"/>
                  </a:solidFill>
                  <a:latin typeface="Courier New"/>
                </a:rPr>
                <a:t>char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result = message.charAt (sum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2000" spc="-1" strike="noStrike">
                  <a:solidFill>
                    <a:srgbClr val="3366ff"/>
                  </a:solidFill>
                  <a:latin typeface="Courier New"/>
                </a:rPr>
                <a:t>return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resul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7"/>
          <p:cNvSpPr/>
          <p:nvPr/>
        </p:nvSpPr>
        <p:spPr>
          <a:xfrm>
            <a:off x="1602720" y="2590920"/>
            <a:ext cx="55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 = obj.calc (25, count, "Hello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316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9"/>
          <p:cNvGrpSpPr/>
          <p:nvPr/>
        </p:nvGrpSpPr>
        <p:grpSpPr>
          <a:xfrm>
            <a:off x="3657240" y="3048120"/>
            <a:ext cx="3657960" cy="762120"/>
            <a:chOff x="3657240" y="3048120"/>
            <a:chExt cx="3657960" cy="762120"/>
          </a:xfrm>
        </p:grpSpPr>
        <p:cxnSp>
          <p:nvCxnSpPr>
            <p:cNvPr id="390" name="AutoShape 10"/>
            <p:cNvCxnSpPr/>
            <p:nvPr/>
          </p:nvCxnSpPr>
          <p:spPr>
            <a:xfrm rot="5400000">
              <a:off x="3504600" y="3200400"/>
              <a:ext cx="762480" cy="457920"/>
            </a:xfrm>
            <a:prstGeom prst="bentConnector3">
              <a:avLst>
                <a:gd name="adj1" fmla="val 20595"/>
              </a:avLst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cxnSp>
          <p:nvCxnSpPr>
            <p:cNvPr id="391" name="AutoShape 11"/>
            <p:cNvCxnSpPr/>
            <p:nvPr/>
          </p:nvCxnSpPr>
          <p:spPr>
            <a:xfrm flipH="1" rot="16200000">
              <a:off x="4685400" y="3314520"/>
              <a:ext cx="762480" cy="229320"/>
            </a:xfrm>
            <a:prstGeom prst="bentConnector3">
              <a:avLst>
                <a:gd name="adj1" fmla="val 17241"/>
              </a:avLst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grpSp>
          <p:nvGrpSpPr>
            <p:cNvPr id="392" name="Group 12"/>
            <p:cNvGrpSpPr/>
            <p:nvPr/>
          </p:nvGrpSpPr>
          <p:grpSpPr>
            <a:xfrm>
              <a:off x="6171840" y="3048120"/>
              <a:ext cx="1143360" cy="761400"/>
              <a:chOff x="6171840" y="3048120"/>
              <a:chExt cx="1143360" cy="761400"/>
            </a:xfrm>
          </p:grpSpPr>
          <p:sp>
            <p:nvSpPr>
              <p:cNvPr id="393" name="Line 13"/>
              <p:cNvSpPr/>
              <p:nvPr/>
            </p:nvSpPr>
            <p:spPr>
              <a:xfrm>
                <a:off x="6172200" y="3048120"/>
                <a:ext cx="0" cy="15228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Line 14"/>
              <p:cNvSpPr/>
              <p:nvPr/>
            </p:nvSpPr>
            <p:spPr>
              <a:xfrm flipH="1">
                <a:off x="6171840" y="3200400"/>
                <a:ext cx="1143000" cy="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Line 15"/>
              <p:cNvSpPr/>
              <p:nvPr/>
            </p:nvSpPr>
            <p:spPr>
              <a:xfrm>
                <a:off x="7315200" y="3200400"/>
                <a:ext cx="0" cy="60912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6" name="Footer Placeholder 1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cal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e’ve seen, local variables can be declared inside a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rmal parameters of a method cre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ic local variab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 the method is invo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method finishes, all local variables are destroyed (including the formal paramet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in mind that instance variables, declared at the class level, exists as long as the object ex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fig04_01.tif"/>
          <p:cNvPicPr/>
          <p:nvPr/>
        </p:nvPicPr>
        <p:blipFill>
          <a:blip r:embed="rId1"/>
          <a:stretch/>
        </p:blipFill>
        <p:spPr>
          <a:xfrm>
            <a:off x="1447920" y="1143000"/>
            <a:ext cx="6019560" cy="527688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nk Account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look at another example that demonstrates the implementation details of classes and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ll represent a bank account by a class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state can include the account number, the current balance, and the name of the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ccount’s behaviors (or services) include deposits and withdrawals, and adding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iver Pro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river progra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s the use of other, more interesting parts of 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r programs are often used to test other parts of th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ansa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contain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that drives the use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, exercising it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sactions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unt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5"/>
          <p:cNvSpPr/>
          <p:nvPr/>
        </p:nvSpPr>
        <p:spPr>
          <a:xfrm>
            <a:off x="609480" y="609480"/>
            <a:ext cx="79106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Transaction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creation and use of multiple Account obj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some bank accounts and requests various servi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unt acct1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unt ("Ted Murphy", 72354, 102.5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unt acct2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unt ("Jane Smith", 69713, 40.0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unt acct3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unt ("Edward Demsey", 93757, 759.3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ct1.deposit (25.8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dou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mithBalance = acct2.deposit (500.0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Smith balance after deposit: "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mithBalan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5"/>
          <p:cNvSpPr/>
          <p:nvPr/>
        </p:nvSpPr>
        <p:spPr>
          <a:xfrm>
            <a:off x="609480" y="963720"/>
            <a:ext cx="7910640" cy="347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Smith balance after withdrawal: " 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ct2.withdraw (430.75, 1.5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ct1.addInteres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ct2.addInteres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ct3.addInteres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acct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acct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acct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5"/>
          <p:cNvSpPr/>
          <p:nvPr/>
        </p:nvSpPr>
        <p:spPr>
          <a:xfrm>
            <a:off x="609480" y="963720"/>
            <a:ext cx="7910640" cy="347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Smith balance after withdrawal: " 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ct2.withdraw (430.75, 1.5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ct1.addInteres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ct2.addInteres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ct3.addInteres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acct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acct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acct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5"/>
          <p:cNvSpPr/>
          <p:nvPr/>
        </p:nvSpPr>
        <p:spPr>
          <a:xfrm>
            <a:off x="2158200" y="685800"/>
            <a:ext cx="4999320" cy="2252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mith balance after deposit: 54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mith balance after withdrawal: 107.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72354   Ted Murphy      $132.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69713   Jane Smith      $111.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93757   Edward Demsey   $785.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5"/>
          <p:cNvSpPr/>
          <p:nvPr/>
        </p:nvSpPr>
        <p:spPr>
          <a:xfrm>
            <a:off x="609480" y="181080"/>
            <a:ext cx="7910640" cy="645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Account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a bank account with basic services such as depos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and withdra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text.NumberForma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final dou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TE = 0.035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est rate of 3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long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ctNumb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dou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lanc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ets up the account by defining its owner, account numb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and initial bala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unt (String owner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long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unt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dou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= own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ctNumber = ac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lance = initia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5"/>
          <p:cNvSpPr/>
          <p:nvPr/>
        </p:nvSpPr>
        <p:spPr>
          <a:xfrm>
            <a:off x="609480" y="558720"/>
            <a:ext cx="7910640" cy="51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posits the specified amount into the account. Returns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new bala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dou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posit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dou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mou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lance = balance + am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lanc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Withdraws the specified amount from the account and appl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the fee. Returns the new bala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dou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ithdraw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dou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mount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dou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e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lance = balance - amount - fe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lanc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5"/>
          <p:cNvSpPr/>
          <p:nvPr/>
        </p:nvSpPr>
        <p:spPr>
          <a:xfrm>
            <a:off x="609480" y="152280"/>
            <a:ext cx="7910640" cy="624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Adds interest to the account and returns the new bala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dou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Interest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lance += (balance * RA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lanc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turns the current balance of the accou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dou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etBalance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lanc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turns a one-line description of the account as a str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toString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Format fmt = NumberFormat.getCurrencyInstanc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acctNumber + "\t" + name + "\t" + fmt.format(balance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nk Account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65"/>
          <p:cNvGrpSpPr/>
          <p:nvPr/>
        </p:nvGrpSpPr>
        <p:grpSpPr>
          <a:xfrm>
            <a:off x="919080" y="1600200"/>
            <a:ext cx="7081920" cy="1600200"/>
            <a:chOff x="919080" y="1600200"/>
            <a:chExt cx="7081920" cy="1600200"/>
          </a:xfrm>
        </p:grpSpPr>
        <p:sp>
          <p:nvSpPr>
            <p:cNvPr id="421" name="Rectangle 6"/>
            <p:cNvSpPr/>
            <p:nvPr/>
          </p:nvSpPr>
          <p:spPr>
            <a:xfrm>
              <a:off x="1784160" y="1676160"/>
              <a:ext cx="578160" cy="38124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7"/>
            <p:cNvSpPr/>
            <p:nvPr/>
          </p:nvSpPr>
          <p:spPr>
            <a:xfrm>
              <a:off x="919080" y="16905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cc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AutoShape 8"/>
            <p:cNvSpPr/>
            <p:nvPr/>
          </p:nvSpPr>
          <p:spPr>
            <a:xfrm>
              <a:off x="2819520" y="1600200"/>
              <a:ext cx="2895480" cy="160020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9"/>
            <p:cNvSpPr/>
            <p:nvPr/>
          </p:nvSpPr>
          <p:spPr>
            <a:xfrm>
              <a:off x="2057400" y="186696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0"/>
            <p:cNvSpPr/>
            <p:nvPr/>
          </p:nvSpPr>
          <p:spPr>
            <a:xfrm>
              <a:off x="4527360" y="1744560"/>
              <a:ext cx="95904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7235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11"/>
            <p:cNvSpPr/>
            <p:nvPr/>
          </p:nvSpPr>
          <p:spPr>
            <a:xfrm>
              <a:off x="2916360" y="175896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cct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9"/>
            <p:cNvSpPr/>
            <p:nvPr/>
          </p:nvSpPr>
          <p:spPr>
            <a:xfrm>
              <a:off x="4527360" y="2209680"/>
              <a:ext cx="95904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02.5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20"/>
            <p:cNvSpPr/>
            <p:nvPr/>
          </p:nvSpPr>
          <p:spPr>
            <a:xfrm>
              <a:off x="3326040" y="222408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bal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21"/>
            <p:cNvSpPr/>
            <p:nvPr/>
          </p:nvSpPr>
          <p:spPr>
            <a:xfrm>
              <a:off x="4527360" y="2674800"/>
              <a:ext cx="95904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22"/>
            <p:cNvSpPr/>
            <p:nvPr/>
          </p:nvSpPr>
          <p:spPr>
            <a:xfrm>
              <a:off x="3735720" y="26892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AutoShape 34"/>
            <p:cNvSpPr/>
            <p:nvPr/>
          </p:nvSpPr>
          <p:spPr>
            <a:xfrm>
              <a:off x="6095880" y="2682720"/>
              <a:ext cx="1905120" cy="36504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35"/>
            <p:cNvSpPr/>
            <p:nvPr/>
          </p:nvSpPr>
          <p:spPr>
            <a:xfrm>
              <a:off x="4978440" y="2865240"/>
              <a:ext cx="104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37"/>
            <p:cNvSpPr/>
            <p:nvPr/>
          </p:nvSpPr>
          <p:spPr>
            <a:xfrm>
              <a:off x="6147000" y="2666880"/>
              <a:ext cx="182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"Ted Murphy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66"/>
          <p:cNvGrpSpPr/>
          <p:nvPr/>
        </p:nvGrpSpPr>
        <p:grpSpPr>
          <a:xfrm>
            <a:off x="919080" y="3809880"/>
            <a:ext cx="7081920" cy="1600200"/>
            <a:chOff x="919080" y="3809880"/>
            <a:chExt cx="7081920" cy="1600200"/>
          </a:xfrm>
        </p:grpSpPr>
        <p:sp>
          <p:nvSpPr>
            <p:cNvPr id="435" name="Rectangle 52"/>
            <p:cNvSpPr/>
            <p:nvPr/>
          </p:nvSpPr>
          <p:spPr>
            <a:xfrm>
              <a:off x="1784160" y="3886200"/>
              <a:ext cx="57816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53"/>
            <p:cNvSpPr/>
            <p:nvPr/>
          </p:nvSpPr>
          <p:spPr>
            <a:xfrm>
              <a:off x="919080" y="39002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cc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AutoShape 54"/>
            <p:cNvSpPr/>
            <p:nvPr/>
          </p:nvSpPr>
          <p:spPr>
            <a:xfrm>
              <a:off x="2819520" y="3809880"/>
              <a:ext cx="2895480" cy="160020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55"/>
            <p:cNvSpPr/>
            <p:nvPr/>
          </p:nvSpPr>
          <p:spPr>
            <a:xfrm>
              <a:off x="2057400" y="40766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56"/>
            <p:cNvSpPr/>
            <p:nvPr/>
          </p:nvSpPr>
          <p:spPr>
            <a:xfrm>
              <a:off x="4527360" y="3954240"/>
              <a:ext cx="9590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697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57"/>
            <p:cNvSpPr/>
            <p:nvPr/>
          </p:nvSpPr>
          <p:spPr>
            <a:xfrm>
              <a:off x="2916360" y="396864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cct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58"/>
            <p:cNvSpPr/>
            <p:nvPr/>
          </p:nvSpPr>
          <p:spPr>
            <a:xfrm>
              <a:off x="4527360" y="4419360"/>
              <a:ext cx="9590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0.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59"/>
            <p:cNvSpPr/>
            <p:nvPr/>
          </p:nvSpPr>
          <p:spPr>
            <a:xfrm>
              <a:off x="3326040" y="443376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bal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60"/>
            <p:cNvSpPr/>
            <p:nvPr/>
          </p:nvSpPr>
          <p:spPr>
            <a:xfrm>
              <a:off x="4527360" y="4884480"/>
              <a:ext cx="9590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61"/>
            <p:cNvSpPr/>
            <p:nvPr/>
          </p:nvSpPr>
          <p:spPr>
            <a:xfrm>
              <a:off x="3735720" y="48988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AutoShape 62"/>
            <p:cNvSpPr/>
            <p:nvPr/>
          </p:nvSpPr>
          <p:spPr>
            <a:xfrm>
              <a:off x="6095880" y="4892400"/>
              <a:ext cx="1905120" cy="36540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63"/>
            <p:cNvSpPr/>
            <p:nvPr/>
          </p:nvSpPr>
          <p:spPr>
            <a:xfrm>
              <a:off x="4978440" y="5075280"/>
              <a:ext cx="104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64"/>
            <p:cNvSpPr/>
            <p:nvPr/>
          </p:nvSpPr>
          <p:spPr>
            <a:xfrm>
              <a:off x="6147000" y="4876560"/>
              <a:ext cx="182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"Jane Smith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Footer Placeholder 31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nk Account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some improvements that can be made 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getters and setters could have been defined for al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sign of some methods could also be more robust, such as verifying that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mou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ameter 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ithdra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is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es and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from our overview of objects in Chapter 1 that an object h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a six-sided die (singular of d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state can be defined as which face is sh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primary behavior is that it can be ro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present a die by designing a class call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models this state and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ass serves as the blueprint for a di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then instantiate as many die objects as we need for any particular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uctors Revisi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a constructor has no return type specified in the method header, not ev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mon error is to put a return type on a constructor, which makes it a “regular” method that happens to have the same name as th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grammer does not have to define a constructor for a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lass ha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fault constru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accepts no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5"/>
          <p:cNvSpPr/>
          <p:nvPr/>
        </p:nvSpPr>
        <p:spPr>
          <a:xfrm>
            <a:off x="304920" y="106668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express whic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u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's balance is updated when a deposit is ma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5"/>
          <p:cNvSpPr/>
          <p:nvPr/>
        </p:nvSpPr>
        <p:spPr>
          <a:xfrm>
            <a:off x="304920" y="106668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express whic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u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's balance is updated when a deposit is ma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5"/>
          <p:cNvSpPr/>
          <p:nvPr/>
        </p:nvSpPr>
        <p:spPr>
          <a:xfrm>
            <a:off x="685800" y="2190600"/>
            <a:ext cx="769608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account is referenced by an object reference vari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unt myAcct = new Account(…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hen a method is called, you call it through a particular obje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myAcct.deposit(5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2667600" y="1757520"/>
            <a:ext cx="387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tomy of a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tomy of a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al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al User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tons and Text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4"/>
          <p:cNvSpPr/>
          <p:nvPr/>
        </p:nvSpPr>
        <p:spPr>
          <a:xfrm>
            <a:off x="1828800" y="34783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phical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bjects contain information that determines how the object should be represented vis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GUI components are graphical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have some effect on how components get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id this in Chapter 2 when we defined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a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of an app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's look at some other examples of graphical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miling Face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milingF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gram draws a face by defin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of a pa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milingFace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milingFacePanel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milingF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instantiate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milingFacePan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displays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milingFacePan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is derived from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using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47560" y="369720"/>
            <a:ext cx="7910640" cy="58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milingFace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 separate panel cla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Fr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miling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the main frame of the progr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Smiling Face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milingFacePanel panel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milingFace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(pan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5"/>
          <p:cNvSpPr/>
          <p:nvPr/>
        </p:nvSpPr>
        <p:spPr>
          <a:xfrm>
            <a:off x="547560" y="369720"/>
            <a:ext cx="7910640" cy="58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milingFace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 separate panel cla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Fr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miling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the main frame of the progr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Smiling Face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milingFacePanel panel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milingFace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(pan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6"/>
          <p:cNvGrpSpPr/>
          <p:nvPr/>
        </p:nvGrpSpPr>
        <p:grpSpPr>
          <a:xfrm>
            <a:off x="2209680" y="228600"/>
            <a:ext cx="4724640" cy="3287520"/>
            <a:chOff x="2209680" y="228600"/>
            <a:chExt cx="4724640" cy="3287520"/>
          </a:xfrm>
        </p:grpSpPr>
        <p:sp>
          <p:nvSpPr>
            <p:cNvPr id="477" name="TextBox 5"/>
            <p:cNvSpPr/>
            <p:nvPr/>
          </p:nvSpPr>
          <p:spPr>
            <a:xfrm>
              <a:off x="2209680" y="228600"/>
              <a:ext cx="4724640" cy="3287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8" name="Picture 5" descr="Screen shot 2011-02-17 at 2.53.12 PM.png"/>
            <p:cNvPicPr/>
            <p:nvPr/>
          </p:nvPicPr>
          <p:blipFill>
            <a:blip r:embed="rId1"/>
            <a:stretch/>
          </p:blipFill>
          <p:spPr>
            <a:xfrm>
              <a:off x="2571480" y="486720"/>
              <a:ext cx="4038840" cy="2806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5"/>
          <p:cNvSpPr/>
          <p:nvPr/>
        </p:nvSpPr>
        <p:spPr>
          <a:xfrm>
            <a:off x="609480" y="609480"/>
            <a:ext cx="79106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milingFacePanel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 separate panel cla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Pane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milingFacePanel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xtend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final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SEX = 120, BASEY = 60;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ase point for 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nstructor: Sets up the main characteristics of this pan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milingFacePanel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Background (Color.bl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PreferredSize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mension(320, 20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Font (new Font("Arial", Font.BOLD, 16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5"/>
          <p:cNvSpPr/>
          <p:nvPr/>
        </p:nvSpPr>
        <p:spPr>
          <a:xfrm>
            <a:off x="609480" y="304920"/>
            <a:ext cx="7910640" cy="602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raws a f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intComponent (Graphics pa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supe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paintComponent (pag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setColor (Color.yellow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Oval (BASEX, BASEY, 80, 80)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Oval (BASEX-5, BASEY+20, 90, 40)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setColor (Color.blac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Oval (BASEX+20, BASEY+30, 15, 7)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Oval (BASEX+45, BASEY+30, 15, 7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Oval (BASEX+25, BASEY+31, 5, 5);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up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Oval (BASEX+50, BASEY+31, 5, 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Arc (BASEX+20, BASEY+25, 15, 7, 0, 180)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yebr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Arc (BASEX+45, BASEY+25, 15, 7, 0, 18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Arc (BASEX+35, BASEY+40, 15, 10, 180, 180)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Arc (BASEX+20, BASEY+50, 40, 15, 180, 180)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u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lass can contain data declarations and method decla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6"/>
          <p:cNvGrpSpPr/>
          <p:nvPr/>
        </p:nvGrpSpPr>
        <p:grpSpPr>
          <a:xfrm>
            <a:off x="1752480" y="2286000"/>
            <a:ext cx="2971800" cy="3809880"/>
            <a:chOff x="1752480" y="2286000"/>
            <a:chExt cx="2971800" cy="3809880"/>
          </a:xfrm>
        </p:grpSpPr>
        <p:sp>
          <p:nvSpPr>
            <p:cNvPr id="144" name="AutoShape 5"/>
            <p:cNvSpPr/>
            <p:nvPr/>
          </p:nvSpPr>
          <p:spPr>
            <a:xfrm>
              <a:off x="1752480" y="2286000"/>
              <a:ext cx="2971800" cy="3809880"/>
            </a:xfrm>
            <a:prstGeom prst="flowChartAlternateProcess">
              <a:avLst/>
            </a:prstGeom>
            <a:solidFill>
              <a:srgbClr val="f5e985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6"/>
            <p:cNvSpPr/>
            <p:nvPr/>
          </p:nvSpPr>
          <p:spPr>
            <a:xfrm>
              <a:off x="2057400" y="3352680"/>
              <a:ext cx="1752480" cy="76212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7"/>
            <p:cNvSpPr/>
            <p:nvPr/>
          </p:nvSpPr>
          <p:spPr>
            <a:xfrm>
              <a:off x="2057400" y="4228920"/>
              <a:ext cx="1752480" cy="53352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8"/>
            <p:cNvSpPr/>
            <p:nvPr/>
          </p:nvSpPr>
          <p:spPr>
            <a:xfrm>
              <a:off x="2057400" y="4876560"/>
              <a:ext cx="1752480" cy="9144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9"/>
            <p:cNvSpPr/>
            <p:nvPr/>
          </p:nvSpPr>
          <p:spPr>
            <a:xfrm>
              <a:off x="1982880" y="2513880"/>
              <a:ext cx="2512440" cy="642600"/>
            </a:xfrm>
            <a:prstGeom prst="rect">
              <a:avLst/>
            </a:prstGeom>
            <a:solidFill>
              <a:srgbClr val="f5e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nt size, weigh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har catego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10"/>
          <p:cNvSpPr/>
          <p:nvPr/>
        </p:nvSpPr>
        <p:spPr>
          <a:xfrm>
            <a:off x="5815440" y="2589840"/>
            <a:ext cx="243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Data decla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5394600" y="4342320"/>
            <a:ext cx="281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Method decla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2"/>
          <p:cNvSpPr/>
          <p:nvPr/>
        </p:nvSpPr>
        <p:spPr>
          <a:xfrm flipH="1">
            <a:off x="4419720" y="2819520"/>
            <a:ext cx="129528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3"/>
          <p:cNvGrpSpPr/>
          <p:nvPr/>
        </p:nvGrpSpPr>
        <p:grpSpPr>
          <a:xfrm>
            <a:off x="3962520" y="3352680"/>
            <a:ext cx="1142640" cy="2438280"/>
            <a:chOff x="3962520" y="3352680"/>
            <a:chExt cx="1142640" cy="2438280"/>
          </a:xfrm>
        </p:grpSpPr>
        <p:sp>
          <p:nvSpPr>
            <p:cNvPr id="153" name="AutoShape 14"/>
            <p:cNvSpPr/>
            <p:nvPr/>
          </p:nvSpPr>
          <p:spPr>
            <a:xfrm>
              <a:off x="3962520" y="3352680"/>
              <a:ext cx="628560" cy="2438280"/>
            </a:xfrm>
            <a:custGeom>
              <a:avLst/>
              <a:gdLst>
                <a:gd name="textAreaLeft" fmla="*/ 0 w 628560"/>
                <a:gd name="textAreaRight" fmla="*/ 226800 w 628560"/>
                <a:gd name="textAreaTop" fmla="*/ 63360 h 2438280"/>
                <a:gd name="textAreaBottom" fmla="*/ 2374920 h 24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5"/>
            <p:cNvSpPr/>
            <p:nvPr/>
          </p:nvSpPr>
          <p:spPr>
            <a:xfrm flipH="1">
              <a:off x="4591080" y="4571640"/>
              <a:ext cx="5140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Footer Placeholder 1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5"/>
          <p:cNvSpPr/>
          <p:nvPr/>
        </p:nvSpPr>
        <p:spPr>
          <a:xfrm>
            <a:off x="609480" y="1600200"/>
            <a:ext cx="8077320" cy="19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setColor (Color.wh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String ("Always remember that you are unique!"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SEX-105, BASEY-1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String ("Just like everyone else.", BASEX-45, BASEY+10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miling Face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Swing component ha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accept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that represents the graphics context for the pa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efin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to draw the face with appropriate calls 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e difference between drawing on a panel and adding other GUI components to a pa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lat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pl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ample is structured a bit differ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draws a set of colored circles on a panel, but each circle is represented as a separate object that maintains its own graphic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of the panel "asks" each circle to draw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plat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platPanel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5"/>
          <p:cNvSpPr/>
          <p:nvPr/>
        </p:nvSpPr>
        <p:spPr>
          <a:xfrm>
            <a:off x="547560" y="36972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plat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graphical obj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l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esents a collection of circ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Splat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latPanel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5"/>
          <p:cNvSpPr/>
          <p:nvPr/>
        </p:nvSpPr>
        <p:spPr>
          <a:xfrm>
            <a:off x="547560" y="36972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plat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graphical obj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l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esents a collection of circ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Splat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latPanel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7"/>
          <p:cNvGrpSpPr/>
          <p:nvPr/>
        </p:nvGrpSpPr>
        <p:grpSpPr>
          <a:xfrm>
            <a:off x="2286000" y="228600"/>
            <a:ext cx="4495680" cy="3287520"/>
            <a:chOff x="2286000" y="228600"/>
            <a:chExt cx="4495680" cy="3287520"/>
          </a:xfrm>
        </p:grpSpPr>
        <p:sp>
          <p:nvSpPr>
            <p:cNvPr id="496" name="TextBox 5"/>
            <p:cNvSpPr/>
            <p:nvPr/>
          </p:nvSpPr>
          <p:spPr>
            <a:xfrm>
              <a:off x="2286000" y="228600"/>
              <a:ext cx="4495680" cy="3287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7" name="Picture 6" descr="Screen shot 2011-02-17 at 2.53.37 PM.png"/>
            <p:cNvPicPr/>
            <p:nvPr/>
          </p:nvPicPr>
          <p:blipFill>
            <a:blip r:embed="rId1"/>
            <a:stretch/>
          </p:blipFill>
          <p:spPr>
            <a:xfrm>
              <a:off x="2656080" y="501480"/>
              <a:ext cx="3784680" cy="2806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5"/>
          <p:cNvSpPr/>
          <p:nvPr/>
        </p:nvSpPr>
        <p:spPr>
          <a:xfrm>
            <a:off x="609480" y="228600"/>
            <a:ext cx="7910640" cy="645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platPanel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graphical obj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latPanel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xtend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 circle1, circle2, circle3, circle4, circle5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nstructor: Creates five Circle obj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latPanel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1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 (30, Color.red, 70, 3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2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 (50, Color.green, 30, 2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3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 (100, Color.cyan, 60, 8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4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 (45, Color.yellow, 170, 3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5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 (60, Color.blue, 200, 6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PreferredSize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mension(300, 20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Background (Color.blac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5"/>
          <p:cNvSpPr/>
          <p:nvPr/>
        </p:nvSpPr>
        <p:spPr>
          <a:xfrm>
            <a:off x="609480" y="923760"/>
            <a:ext cx="791064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raws this panel by requesting that each circle draw itsel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intComponent (Graphics pa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supe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paintComponent(pag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1.draw(pag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2.draw(pag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3.draw(pag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4.draw(pag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5.draw(pag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5"/>
          <p:cNvSpPr/>
          <p:nvPr/>
        </p:nvSpPr>
        <p:spPr>
          <a:xfrm>
            <a:off x="609480" y="457200"/>
            <a:ext cx="807732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ircle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a circle with a particular position, size, and col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eter, x, 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lor col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nstructor: Sets up this circle with the specified valu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, Color shade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pperX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pper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eter = siz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lor = shad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upper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upper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5"/>
          <p:cNvSpPr/>
          <p:nvPr/>
        </p:nvSpPr>
        <p:spPr>
          <a:xfrm>
            <a:off x="609480" y="152280"/>
            <a:ext cx="8077320" cy="624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raws this circle in the specified graphics con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raw (Graphics pa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setColor (col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Oval (x, y, diameter, diamet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iameter mutat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Diameter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eter = siz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lor mutat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Color (Color sha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lor = shad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5"/>
          <p:cNvSpPr/>
          <p:nvPr/>
        </p:nvSpPr>
        <p:spPr>
          <a:xfrm>
            <a:off x="609480" y="152280"/>
            <a:ext cx="8077320" cy="602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X mutat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X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pper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upper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Y mutat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Y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pper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upper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iameter access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etDiameter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e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s of the data define the state of an object created from th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nctionality of the methods define the behaviors of the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ou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, we might declare an integer call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aceValu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represents the current value showing on the 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methods would “roll” the die by sett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aceValu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 random number between one and s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5"/>
          <p:cNvSpPr/>
          <p:nvPr/>
        </p:nvSpPr>
        <p:spPr>
          <a:xfrm>
            <a:off x="609480" y="152280"/>
            <a:ext cx="8077320" cy="58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lor access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lor getColor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l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X access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Y access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etY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2667600" y="1909800"/>
            <a:ext cx="387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tomy of a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tomy of a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al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al User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tons and Text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4"/>
          <p:cNvSpPr/>
          <p:nvPr/>
        </p:nvSpPr>
        <p:spPr>
          <a:xfrm>
            <a:off x="1828800" y="4195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phical User Interf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raphical User Interface (GUI) in Java is created with at least three kinds of ob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, events, and liste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've previously discuss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pon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are objects that represent screen el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s, buttons, text fields, menu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components 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ai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hold and organize other compon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mes, panels, applets, dialog 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object that represents some activity to which we may want to resp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we may want our program to perform some action when the following occu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use is 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use is dragg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use button is cli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aphical button is p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keyboard key is p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imer exp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nts and Liste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ava API contains several classes that represent typical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, such as a graphical button, generate (or fire) an event when it occ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et up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ste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to respond to an event when it occ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design listener objects to take whatever actions are appropriate when an event occ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nts and Liste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Group 15"/>
          <p:cNvGrpSpPr/>
          <p:nvPr/>
        </p:nvGrpSpPr>
        <p:grpSpPr>
          <a:xfrm>
            <a:off x="1217880" y="1828800"/>
            <a:ext cx="2727360" cy="2439360"/>
            <a:chOff x="1217880" y="1828800"/>
            <a:chExt cx="2727360" cy="2439360"/>
          </a:xfrm>
        </p:grpSpPr>
        <p:sp>
          <p:nvSpPr>
            <p:cNvPr id="525" name="AutoShape 4"/>
            <p:cNvSpPr/>
            <p:nvPr/>
          </p:nvSpPr>
          <p:spPr>
            <a:xfrm>
              <a:off x="1838520" y="1828800"/>
              <a:ext cx="1447920" cy="1600200"/>
            </a:xfrm>
            <a:prstGeom prst="flowChartProcess">
              <a:avLst/>
            </a:prstGeom>
            <a:solidFill>
              <a:srgbClr val="f5e9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5"/>
            <p:cNvSpPr/>
            <p:nvPr/>
          </p:nvSpPr>
          <p:spPr>
            <a:xfrm>
              <a:off x="1217880" y="3564360"/>
              <a:ext cx="2727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A component obje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generates an e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Group 16"/>
          <p:cNvGrpSpPr/>
          <p:nvPr/>
        </p:nvGrpSpPr>
        <p:grpSpPr>
          <a:xfrm>
            <a:off x="4747320" y="1828800"/>
            <a:ext cx="3315600" cy="2744280"/>
            <a:chOff x="4747320" y="1828800"/>
            <a:chExt cx="3315600" cy="2744280"/>
          </a:xfrm>
        </p:grpSpPr>
        <p:sp>
          <p:nvSpPr>
            <p:cNvPr id="528" name="AutoShape 7"/>
            <p:cNvSpPr/>
            <p:nvPr/>
          </p:nvSpPr>
          <p:spPr>
            <a:xfrm>
              <a:off x="5724720" y="1828800"/>
              <a:ext cx="1447920" cy="1600200"/>
            </a:xfrm>
            <a:prstGeom prst="flowChartProcess">
              <a:avLst/>
            </a:prstGeom>
            <a:solidFill>
              <a:srgbClr val="f5e9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isten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8"/>
            <p:cNvSpPr/>
            <p:nvPr/>
          </p:nvSpPr>
          <p:spPr>
            <a:xfrm>
              <a:off x="4747320" y="3564360"/>
              <a:ext cx="3315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A corresponding listen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object is designed 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respond to the e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Group 14"/>
          <p:cNvGrpSpPr/>
          <p:nvPr/>
        </p:nvGrpSpPr>
        <p:grpSpPr>
          <a:xfrm>
            <a:off x="3362400" y="1523880"/>
            <a:ext cx="2209680" cy="838440"/>
            <a:chOff x="3362400" y="1523880"/>
            <a:chExt cx="2209680" cy="838440"/>
          </a:xfrm>
        </p:grpSpPr>
        <p:sp>
          <p:nvSpPr>
            <p:cNvPr id="531" name="Line 10"/>
            <p:cNvSpPr/>
            <p:nvPr/>
          </p:nvSpPr>
          <p:spPr>
            <a:xfrm>
              <a:off x="3362400" y="2362320"/>
              <a:ext cx="22096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1"/>
            <p:cNvSpPr/>
            <p:nvPr/>
          </p:nvSpPr>
          <p:spPr>
            <a:xfrm>
              <a:off x="4030560" y="1523880"/>
              <a:ext cx="837720" cy="685800"/>
            </a:xfrm>
            <a:prstGeom prst="flowChartProcess">
              <a:avLst/>
            </a:prstGeom>
            <a:solidFill>
              <a:srgbClr val="f5e9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v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Text Box 12"/>
          <p:cNvSpPr/>
          <p:nvPr/>
        </p:nvSpPr>
        <p:spPr>
          <a:xfrm>
            <a:off x="1612080" y="4860000"/>
            <a:ext cx="5807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When the event occurs, the component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the appropriate method of the listene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passing an object that describes the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ooter Placeholder 1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I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reate a Java program that uses a GUI we mu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ntiate and set up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 listener classes for any events we care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the relationship between listeners and the components that generate the corresponding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's now explore some new components and see how this all comes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2667600" y="1986120"/>
            <a:ext cx="387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tomy of a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tomy of a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al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al User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tons and Text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4"/>
          <p:cNvSpPr/>
          <p:nvPr/>
        </p:nvSpPr>
        <p:spPr>
          <a:xfrm>
            <a:off x="1828800" y="48052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tt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ush butt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defined by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Butt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generates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tion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shCoun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ample displays a push button that increments a counter each time it is pu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ushCounter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ushCounterPanel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5"/>
          <p:cNvSpPr/>
          <p:nvPr/>
        </p:nvSpPr>
        <p:spPr>
          <a:xfrm>
            <a:off x="609480" y="533520"/>
            <a:ext cx="79106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ushCounter.java       Authors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a graphical user interface and an event listen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Fr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shCou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the main program fr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Push Counter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shCounterPanel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ll want to desig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so that it is a versatile and reusable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given program will probably not use all operations of a given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ollingDice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ie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5"/>
          <p:cNvSpPr/>
          <p:nvPr/>
        </p:nvSpPr>
        <p:spPr>
          <a:xfrm>
            <a:off x="609480" y="533520"/>
            <a:ext cx="79106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ushCounter.java       Authors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a graphical user interface and an event listen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Fr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shCou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the main program fr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Push Counter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shCounterPanel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11"/>
          <p:cNvGrpSpPr/>
          <p:nvPr/>
        </p:nvGrpSpPr>
        <p:grpSpPr>
          <a:xfrm>
            <a:off x="2286000" y="428760"/>
            <a:ext cx="4495680" cy="1309320"/>
            <a:chOff x="2286000" y="428760"/>
            <a:chExt cx="4495680" cy="1309320"/>
          </a:xfrm>
        </p:grpSpPr>
        <p:sp>
          <p:nvSpPr>
            <p:cNvPr id="550" name="TextBox 5"/>
            <p:cNvSpPr/>
            <p:nvPr/>
          </p:nvSpPr>
          <p:spPr>
            <a:xfrm>
              <a:off x="2286000" y="428760"/>
              <a:ext cx="4495680" cy="1309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1" name="Picture 10" descr="Screen shot 2011-02-17 at 2.54.18 PM.png"/>
            <p:cNvPicPr/>
            <p:nvPr/>
          </p:nvPicPr>
          <p:blipFill>
            <a:blip r:embed="rId1"/>
            <a:stretch/>
          </p:blipFill>
          <p:spPr>
            <a:xfrm>
              <a:off x="2656080" y="689040"/>
              <a:ext cx="3784680" cy="787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5"/>
          <p:cNvSpPr/>
          <p:nvPr/>
        </p:nvSpPr>
        <p:spPr>
          <a:xfrm>
            <a:off x="623880" y="306360"/>
            <a:ext cx="7910640" cy="602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ushCounterPanel.java       Authors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a graphical user interface and an event listen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even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shCounterPanel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xtend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push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labe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nstructor: Sets up the GU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shCounterPanel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sh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Push Me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sh.addActionListener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uttonListener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5"/>
          <p:cNvSpPr/>
          <p:nvPr/>
        </p:nvSpPr>
        <p:spPr>
          <a:xfrm>
            <a:off x="623880" y="446040"/>
            <a:ext cx="7910640" cy="58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 = new JLabel ("Pushes: " + cou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pus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lab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PreferredSize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mension(300, 4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Background (Color.cya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a listener for button push (action) ev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uttonListener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l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tionListe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Updates the counter and label when the button is push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tionPerformed (ActionEvent ev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.setText("Pushes: " + cou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sh Counter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onents of the GUI are the button, a label to display the counter, a panel to organize the components, and the main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shCounterPan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represents the panel used to display the button and l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shCounterPan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is derived from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ing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structor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shCounterPan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ts up the elements of the GUI and initializes the counter to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sh Counter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uttonListe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is the listener for the action event generated by the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implemented as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ner cl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means it is defined within the body of another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facilitates the communication between the listener and the GUI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er classes should only be used in situations where there is an intimate relationship between the two classes and the inner class is not needed in any other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sh Counter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er classes are written by implementing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sten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uttonListe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implement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terface is a list of methods that the implementing class must def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nly method 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erface i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ctionPerform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ava API contains interfaces for many types of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iscuss interfaces in more detail in Chapter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sh Counter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shCounterPan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truct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tiates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uttonListen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s the relationship between the button and the listener by the call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ActionList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user presses the button, the button component creates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ctionEv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and call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ctionPerform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of the lis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ctionPerform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increments the counter and resets the text of the l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5"/>
          <p:cNvSpPr/>
          <p:nvPr/>
        </p:nvSpPr>
        <p:spPr>
          <a:xfrm>
            <a:off x="304920" y="1066680"/>
            <a:ext cx="8686800" cy="29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9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bject in the Push Counter example generated the ev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d it do th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5"/>
          <p:cNvSpPr/>
          <p:nvPr/>
        </p:nvSpPr>
        <p:spPr>
          <a:xfrm>
            <a:off x="304920" y="1066680"/>
            <a:ext cx="8686800" cy="29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9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bject in the Push Counter example generated the ev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d it do th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5"/>
          <p:cNvSpPr/>
          <p:nvPr/>
        </p:nvSpPr>
        <p:spPr>
          <a:xfrm>
            <a:off x="685800" y="2286000"/>
            <a:ext cx="769608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9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tton component generated the ev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 called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ctionPerform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method of the listener object that had been registered with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xt Fiel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's look at another GUI example that uses another type of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xt fie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ows the user to enter one line of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cursor is in the text field, the text field object generates an action event when the enter key is p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ahrenheit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ahrenheitPanel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6T00:14:43Z</dcterms:created>
  <dc:creator>usnidem</dc:creator>
  <dc:description/>
  <dc:language>en-US</dc:language>
  <cp:lastModifiedBy>Noreen Elliott</cp:lastModifiedBy>
  <dcterms:modified xsi:type="dcterms:W3CDTF">2013-08-12T20:17:37Z</dcterms:modified>
  <cp:revision>21</cp:revision>
  <dc:subject/>
  <dc:title>Chapter #, Title</dc:title>
</cp:coreProperties>
</file>